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0FD-CB66-4881-9653-C94D7E92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E75-36D3-4662-B8A0-236DD08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227-07BC-4221-AC84-1860A85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9C5-5EE8-4062-B81C-68D6BA45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FAE-1A08-428E-ABA8-968435F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85A-5164-4D2A-AACD-1480BB7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715-305B-4F4C-A91F-3F56112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D50-55A5-406F-9045-85925E5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950-F8D5-4805-BEA3-406E3CB5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F82-802B-4102-AEFC-70D1505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4AA-7263-4108-AE55-C969FDB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F83-3F5D-4E02-95F7-8612AF9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E9F3-058C-4A5F-9D1D-A945F644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ontrazione_muscolar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c00"/>
                </a:solidFill>
                <a:latin typeface="Haettenschweiler"/>
              </a:rPr>
              <a:t>Il Corpo Uma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pparato schel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pparato mus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661000"/>
            <a:ext cx="67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a della classe V sez. D SANTOCANALE – SCI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gnante ROT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1359000"/>
            <a:ext cx="3251520" cy="368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68360" y="5445000"/>
            <a:ext cx="46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Haettenschweiler"/>
              </a:rPr>
              <a:t>LA STRIATURA DEI MUSCOLI LUNG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57520" y="1928880"/>
            <a:ext cx="2028960" cy="2543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1280" y="486900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Haettenschweiler"/>
              </a:rPr>
              <a:t>MUSCOLI </a:t>
            </a:r>
            <a:r>
              <a:rPr b="0" lang="en-US" sz="4800" spc="-1" strike="noStrike">
                <a:solidFill>
                  <a:srgbClr val="99cc00"/>
                </a:solidFill>
                <a:latin typeface="Haettenschweiler"/>
              </a:rPr>
              <a:t>FACCIA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 tipo muscoloso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85960" y="1600200"/>
            <a:ext cx="37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 comanda i muscoli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azione muscol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un muscolo scheletrico ha inizio quando il segnale elettrico, proveniente dai motoneuroni del sistema nervoso centrale, arriva ai bottoni sinapt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a 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fase di rilassa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l procedimento avviene in modo contrario a quello della con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L NOSTRO SCHEL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composto da circa 206 o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ossa contengon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dollo osseo r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pi di ossa (per forma): ossa lunghe, ossa piatte, ossa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pi di ossa (per movimento): ossa mobili, semimobili e f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7480" y="274680"/>
            <a:ext cx="3029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08040" y="576360"/>
            <a:ext cx="612612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05200" y="1504800"/>
            <a:ext cx="3333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852560"/>
            <a:ext cx="441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2579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Haettenschweiler"/>
              </a:rPr>
              <a:t>APPARATO MUSCOL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9912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l nostro corpo ci sono cir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0 musco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19240" y="657360"/>
            <a:ext cx="51055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04960"/>
            <a:ext cx="457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0:59:03Z</dcterms:created>
  <dc:creator>alunno</dc:creator>
  <dc:description/>
  <dc:language>en-US</dc:language>
  <cp:lastModifiedBy>alunno</cp:lastModifiedBy>
  <dcterms:modified xsi:type="dcterms:W3CDTF">2011-10-17T13:02:28Z</dcterms:modified>
  <cp:revision>4</cp:revision>
  <dc:subject/>
  <dc:title>Il Corpo Umano</dc:title>
</cp:coreProperties>
</file>